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4B9-F594-42F1-9FB1-40679ECF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844-5E92-4235-BB26-3A91D023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E9D-FE9C-43A5-B3C0-CED26028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C57-554F-4EF3-8BAD-C9A951AE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292-B7C8-4793-83E7-2C8AE5E1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C91-EE7B-46B9-99D7-D3190189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744-B028-4CC1-B527-035A6671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C92-97EF-4CDB-BD69-A86D6DCA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B05-5641-49BE-9F8C-83C40544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4C7-4CC1-4030-AC4E-247E1F08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523-97B1-4CBA-9E36-D9D0A667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95D-23AE-4AD0-BB28-EF6BDE41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BC59-E9C4-46A1-9D6F-C679E8248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0"/>
            <a:ext cx="9144000" cy="6858000"/>
          </a:xfrm>
          <a:prstGeom prst="parallelogram">
            <a:avLst>
              <a:gd name="adj" fmla="val -230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12000" y="154080"/>
            <a:ext cx="2952720" cy="466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08760" y="2349360"/>
            <a:ext cx="630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яем вашему вним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ю Нижегородского со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95560" y="646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60" y="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vic.nnov.ru/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16040" y="3838680"/>
            <a:ext cx="41436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920" y="0"/>
            <a:ext cx="9144000" cy="6858000"/>
          </a:xfrm>
          <a:prstGeom prst="parallelogram">
            <a:avLst>
              <a:gd name="adj" fmla="val -230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2000" y="154080"/>
            <a:ext cx="2952720" cy="46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95560" y="646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60" y="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vic.nnov.ru/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2640" y="1217520"/>
            <a:ext cx="728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все чаще замечаете на дорогах автомобили этой моде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владельцев автомобиле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nda Civi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намика роста клуба – около 5 человек в меся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6160" y="765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9760" y="3017880"/>
            <a:ext cx="79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 на форуме с одноклубниками и представителями дил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омный объем информации, наследие от предыдущих мод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ворчество! Креатив! Тюнинг! Индивидуальност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720" y="256536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000" y="4960800"/>
            <a:ext cx="70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ые участники - новые идеи, новые интересные вст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5440" y="45086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4920" y="0"/>
            <a:ext cx="9144000" cy="6858000"/>
          </a:xfrm>
          <a:prstGeom prst="parallelogram">
            <a:avLst>
              <a:gd name="adj" fmla="val -230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12000" y="154080"/>
            <a:ext cx="2952720" cy="466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95560" y="646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360" y="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vic.nnov.ru/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87760" y="2705040"/>
            <a:ext cx="39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оединяй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16040" y="3500280"/>
            <a:ext cx="414360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8:41:38Z</dcterms:created>
  <dc:creator>artem.ivanov</dc:creator>
  <dc:description/>
  <dc:language>en-US</dc:language>
  <cp:lastModifiedBy>artem.ivanov</cp:lastModifiedBy>
  <dcterms:modified xsi:type="dcterms:W3CDTF">2009-01-27T19:40:40Z</dcterms:modified>
  <cp:revision>9</cp:revision>
  <dc:subject/>
  <dc:title>Слайд 1</dc:title>
</cp:coreProperties>
</file>